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1560" cy="34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FC62-75EC-48F6-BF64-1B294D29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D7AD-4C5D-4B35-8C14-E1C8F4E02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22" descr="Carcassonne"/>
          <p:cNvPicPr/>
          <p:nvPr/>
        </p:nvPicPr>
        <p:blipFill>
          <a:blip r:embed="rId2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25" descr="blue knight"/>
          <p:cNvPicPr/>
          <p:nvPr/>
        </p:nvPicPr>
        <p:blipFill>
          <a:blip r:embed="rId3"/>
          <a:srcRect l="7861" t="3331" r="9499" b="3331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295280" y="1447920"/>
            <a:ext cx="76964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28a4a1"/>
                  </a:solidFill>
                  <a:miter/>
                </a:ln>
                <a:solidFill>
                  <a:srgbClr val="006699"/>
                </a:solidFill>
                <a:effectLst>
                  <a:outerShdw dist="40186" dir="1096358" blurRad="0" rotWithShape="0">
                    <a:srgbClr val="28a4a1"/>
                  </a:outerShdw>
                </a:effectLst>
                <a:latin typeface="Lombardic Narrow"/>
              </a:rPr>
              <a:t>The Middle Ages</a:t>
            </a:r>
            <a:endParaRPr b="0" lang="en-US" sz="2400" spc="1" strike="noStrike">
              <a:ln w="12600">
                <a:solidFill>
                  <a:srgbClr val="28a4a1"/>
                </a:solidFill>
                <a:miter/>
              </a:ln>
              <a:solidFill>
                <a:srgbClr val="006699"/>
              </a:solidFill>
              <a:effectLst>
                <a:outerShdw dist="40186" dir="1096358" blurRad="0" rotWithShape="0">
                  <a:srgbClr val="28a4a1"/>
                </a:outerShdw>
              </a:effectLst>
              <a:latin typeface="Lombardic Narrow"/>
              <a:ea typeface="Lombardic Narrow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447920" y="5486400"/>
            <a:ext cx="74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ine of Roman Empire- Germanic Barbarians took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verything fell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: 742 to 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harlemagne"/>
          <p:cNvPicPr/>
          <p:nvPr/>
        </p:nvPicPr>
        <p:blipFill>
          <a:blip r:embed="rId1">
            <a:lum contrast="6000"/>
          </a:blip>
          <a:srcRect l="1910" t="2979" r="0" b="2979"/>
          <a:stretch/>
        </p:blipFill>
        <p:spPr>
          <a:xfrm>
            <a:off x="3048120" y="1219320"/>
            <a:ext cx="4371840" cy="53337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752480" y="2286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’s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map-Charlemagne's Empire"/>
          <p:cNvPicPr/>
          <p:nvPr/>
        </p:nvPicPr>
        <p:blipFill>
          <a:blip r:embed="rId1"/>
          <a:stretch/>
        </p:blipFill>
        <p:spPr>
          <a:xfrm>
            <a:off x="1461960" y="1278000"/>
            <a:ext cx="7529760" cy="506088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228600"/>
            <a:ext cx="70106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ope Crowned Charlemagne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Holy Roman Emperor: Dec. 25, 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harlemagne Crowned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730600" y="1447920"/>
            <a:ext cx="4889520" cy="5029200"/>
          </a:xfrm>
          <a:prstGeom prst="rect">
            <a:avLst/>
          </a:prstGeom>
          <a:ln w="1908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mag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47560" y="12193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arles the Great; grandson of Charles Martel; ruler of Fr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built an empire reaching across France, Germany, &amp;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France,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68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… on the next slid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47560" y="6858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an empire greater than any known since Rome (Holy Roman Empire); created unified Christia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crowned HRE by the pope = Pope had more power than a king… will be a prob for a LONG tim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ed the blending of Germanic, Christian, &amp; Roman tra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strong, efficient gov’ts- ex for ppl after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death = break up of power &amp; lands = feudalism &amp; diff. countri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752480" y="228600"/>
            <a:ext cx="701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’s Empire Collapses: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reaty of Verdun, 8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ap-Treaty of Verdun-843"/>
          <p:cNvPicPr/>
          <p:nvPr/>
        </p:nvPicPr>
        <p:blipFill>
          <a:blip r:embed="rId1">
            <a:lum contrast="6000"/>
          </a:blip>
          <a:srcRect l="0" t="4815" r="0" b="842"/>
          <a:stretch/>
        </p:blipFill>
        <p:spPr>
          <a:xfrm>
            <a:off x="3232080" y="1371600"/>
            <a:ext cx="3930840" cy="525780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752480" y="30492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Carolingian Renais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6956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1600200" y="1066680"/>
            <a:ext cx="1647720" cy="1733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733920" y="1295280"/>
            <a:ext cx="202248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1905120" y="3505320"/>
            <a:ext cx="3276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47920" y="1066680"/>
            <a:ext cx="7238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: lords, vassals, kings (Europ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: decentralized political &amp; economic structure in which powerful local lords divided their landholdings among lesser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: serve as protection against invaders; system of mutual obligations b/n lords &amp; vas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5280" y="914040"/>
            <a:ext cx="7391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esser l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pledged service &amp; loyalty to the greater lord in exchange for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is service was important to making the new gov’t &amp; econ system (Feudalism)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600200" y="41112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erio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0" y="1639800"/>
            <a:ext cx="6248520" cy="31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Early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500 –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igh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1000 – 1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ate Middle Ag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 1250 - 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 Con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47920" y="990360"/>
            <a:ext cx="7238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vas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ledge of  an exchange of land &amp; loyalty for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Lord grants “fief” to vassal for protection; the vassal pledges his loyalty to lord &amp; promises military servi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23520" y="1066680"/>
            <a:ext cx="71629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Vas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estate (land) that is granted to the vassal in exchange for his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Vassal would receive land with peasants(serfs) to work it-this exchange was an important part of the Feudal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- Main Idea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 worksh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udalism- a new govt/econ system focused on protection deve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udal contract promised exchange of land (fief) for loyalty (mutual oblig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 was structured with king, lord, vassal, serf- relationships were complex- loyalties were conf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unted warr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ought for lords in battle in return for land (f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serf boys sent away to train @ 7, fought in battles for the lord= the protection that Feudal system was based on= without the knight- no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na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kn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mock (fake) bat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A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is served as entertainment for society; practice for the knights for real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ords &amp; peasants (ser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Lord’s estate, villages &amp; surrounding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most imp thing to Feudal econ; peasants worked on the manor in return for protection from the lord; Self-suffic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 Pea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not slaves, but bound to lord’s land &amp; couldn’t leave; worked the lord’s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worked the land- w/o them the Feudal econ wouldn’t have existed; hard life, disease &amp; hunger = most died by 35; limit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nor- main ide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 worksheet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r was the lord’s estate, worked by the serf for protection- most imp part of Feud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sants worked the land for the lord, in return they got protection &amp; housing from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sufficient- produced everything they needed, didn’t need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fs- hard life, died by 35, limit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600200" y="228600"/>
            <a:ext cx="73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t Gothic ExtraBold"/>
              </a:rPr>
              <a:t>Feud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762120"/>
            <a:ext cx="6248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: A political, economic, and social system based on loyalty and military servi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governed Europe during Middl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6" descr="chart-feudal hierarchy"/>
          <p:cNvPicPr/>
          <p:nvPr/>
        </p:nvPicPr>
        <p:blipFill>
          <a:blip r:embed="rId1"/>
          <a:stretch/>
        </p:blipFill>
        <p:spPr>
          <a:xfrm>
            <a:off x="1447920" y="2743200"/>
            <a:ext cx="769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amid soci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87164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http://www.mce.k12tn.net/middleages/feudalpyrami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905120" y="228600"/>
            <a:ext cx="7010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Europe in the 6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Peoples and Kingdoms of the Roman World 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00200" y="1330200"/>
            <a:ext cx="7315200" cy="50706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arcassonne:  A Medieval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arcassonne"/>
          <p:cNvPicPr/>
          <p:nvPr/>
        </p:nvPicPr>
        <p:blipFill>
          <a:blip r:embed="rId1">
            <a:lum contrast="6000"/>
          </a:blip>
          <a:srcRect l="1051" t="0" r="0" b="0"/>
          <a:stretch/>
        </p:blipFill>
        <p:spPr>
          <a:xfrm>
            <a:off x="1600200" y="990720"/>
            <a:ext cx="7391520" cy="54291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arts of a Medieval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arts of a castl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38280" y="1295280"/>
            <a:ext cx="7453440" cy="48895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_medieval_man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Medieval 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map-medieval mano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14300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Life on the Medieval 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Serbs on Manor"/>
          <p:cNvPicPr/>
          <p:nvPr/>
        </p:nvPicPr>
        <p:blipFill>
          <a:blip r:embed="rId1"/>
          <a:stretch/>
        </p:blipFill>
        <p:spPr>
          <a:xfrm>
            <a:off x="1600200" y="1066680"/>
            <a:ext cx="3492360" cy="548640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  <p:pic>
        <p:nvPicPr>
          <p:cNvPr id="122" name="Picture 6" descr="Medieval Builders"/>
          <p:cNvPicPr/>
          <p:nvPr/>
        </p:nvPicPr>
        <p:blipFill>
          <a:blip r:embed="rId2">
            <a:lum contrast="6000"/>
          </a:blip>
          <a:srcRect l="2226" t="0" r="2226" b="4479"/>
          <a:stretch/>
        </p:blipFill>
        <p:spPr>
          <a:xfrm>
            <a:off x="5334120" y="1295280"/>
            <a:ext cx="3581280" cy="33321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  <p:sp>
        <p:nvSpPr>
          <p:cNvPr id="123" name="Text Box 7"/>
          <p:cNvSpPr/>
          <p:nvPr/>
        </p:nvSpPr>
        <p:spPr>
          <a:xfrm>
            <a:off x="5638680" y="5105520"/>
            <a:ext cx="2819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Serf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at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038480" y="3200400"/>
            <a:ext cx="4800600" cy="31240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572000" y="228600"/>
            <a:ext cx="3733920" cy="23623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6320" y="152280"/>
            <a:ext cx="3504960" cy="44197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267080" y="3276720"/>
            <a:ext cx="4343400" cy="295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66760" y="3049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3"/>
          <a:stretch/>
        </p:blipFill>
        <p:spPr>
          <a:xfrm>
            <a:off x="4876920" y="380880"/>
            <a:ext cx="3162240" cy="2035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304920" y="47242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Villag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334120" y="2590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Village Bak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105520" y="62784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Peasan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600200" y="228600"/>
            <a:ext cx="73152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t Gothic ExtraBold"/>
              </a:rPr>
              <a:t>Chivalry</a:t>
            </a:r>
            <a:r>
              <a:rPr b="1" lang="en-US" sz="3200" spc="-1" strike="noStrike">
                <a:solidFill>
                  <a:srgbClr val="cc3300"/>
                </a:solidFill>
                <a:latin typeface="Art Gothic ExtraBold"/>
              </a:rPr>
              <a:t>:</a:t>
            </a: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  A Code of Honor and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Aristocratic Love"/>
          <p:cNvPicPr/>
          <p:nvPr/>
        </p:nvPicPr>
        <p:blipFill>
          <a:blip r:embed="rId1"/>
          <a:stretch/>
        </p:blipFill>
        <p:spPr>
          <a:xfrm>
            <a:off x="3182760" y="914400"/>
            <a:ext cx="3903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520" y="1142640"/>
            <a:ext cx="7239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political gov’ts around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urch #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everyone’s lives in Middle Ages (remember the picture- center of the villa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: Christia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3880" y="12193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roots in classical Rome, Roman Catholic Church, Germanic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decreased, less 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fall of cities– went to vill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went from city to Rural (coun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e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common language- different dial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00200" y="990360"/>
            <a:ext cx="7238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y of Clergy- just like Feud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gy: religious offi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Diagram 3" descr=""/>
          <p:cNvPicPr/>
          <p:nvPr/>
        </p:nvPicPr>
        <p:blipFill>
          <a:blip r:embed="rId1"/>
          <a:stretch/>
        </p:blipFill>
        <p:spPr>
          <a:xfrm>
            <a:off x="2577960" y="1743120"/>
            <a:ext cx="61214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lergy)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4756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the unifying force among the people in M.A.– brought peopl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the main contact with the Church and God– aka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ered Sacraments (important Religious ceremonies/ri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Baptism, Marriage, Comm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cra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riests &amp;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sacred rights of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,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Christians thought by taking sacraments it would lead them to salvation after death, these guided ppl to be moral (ex. Baptism, marriage, becoming pri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dictine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nks &amp; n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rules that regulated the monastic lives of Monks &amp; n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monasteries &amp; convents across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took vows of obedience, poverty, purity; this told them when/what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dominated Medieval life- the people of WE converted to Christianity &amp; anyone who didn’t belong to the church = suspi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the Parish Priest: the priest (in charge of local church) practiced Christian rituals &amp; helped put the rituals into everyda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village church: The church was a social center &amp; largest building in the village; supported by tithes, or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 Cathedrals: Bishops manages Cathedrals (larger churc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 taught ppl men &amp; women were =; In society, women viewed as weak; the church tried to protect women but would punish women more harsh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 idea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asteries &amp; Convents: Benedict organized a monastery &amp; developed Benedictine Rule- regulated monks’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&amp; Scholarship: Monasteries provided health &amp; education; kept learning alive; didn’t like women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’s role in socie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2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.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worldly force in Medieval Europe; non-religious (ex. Kings, emper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church was so powerful that it even controlled the Secular life (i.e. Pope was in charge of secular leaders-k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al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dieval p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Pope had authority of all people (Kings &amp; Emperors inclu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Pope was viewed as a representative of God here on earth; he was higher than anyone else= Pope wa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was the most important thing in life during Middle Ages= Pope was the most important and powerful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vis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47920" y="1143000"/>
            <a:ext cx="72388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arrior king of the Fr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conquered part of the Roman Empire &amp; established the Frank kingdom; converted to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France,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496 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is Frank kingdom replaced the great Roman Empire; his kingdom became what is today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on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he church’s body of laws based on religious teachings that Christians had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governed many aspects of life- wills, marriages, &amp; morals; if you broke these rules- you’d be pu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unishment Christians received for breaking Canon law- kicked out of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most severe of punishment- you could not receive sacraments or Christian burial = condemned to hell for eter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d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owerful noble,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unishment for not obeying Canon law- an order excluding a noble’s entire land/region from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if the noble received this- his people couldn’t get sacraments or Christian burial  =revol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authority: Christian church dedicated to God- anyone who broke Canon law = punishment such as excommunication or inter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ion &amp; Reform: Christians left land &amp; wealth to monasteries – Clergy took this wealth = corrupt = started breaking rules (getting married) = re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o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Monks that did not live in isolated monasteries, they traveled through Europe preaching to the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had an impact on religion in WE- converted the poor ppl to Christianity = Christianity becam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. Francis of Ass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wealthy Italian mo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ounded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of Friars called the Fransis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181- 1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devoted himself to preaching the Gospels &amp; teaching through his examples of good works; preached poverty, humility, &amp; love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 in 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An Agricultural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new technologies allowed farmers to grow more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New farming methods = More land was used = more food = mor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The Revival of Trade &amp;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urope’s pop grew= they wanted more stuff= trade expanded to other countries = went to Asia= got new goods they’d never seen 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More trade led to the development of towns &amp;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rchants, local lords,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written document that set out the rights &amp; privileges of ppl in the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merchants paid the lord a large sum of $, a yearly fee, or both in return for protection of the merchants’ property; these charters protected the rights of the ppl in the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144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rc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merchants that joined together into a partnership where they owned a “business”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pulled their funds together to finance a large-scale business that would cost too much individually- this provided insurance to the merchant &amp; helped reduce the risk of going into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35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Germanic t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from the latin words for “Middle Age”; time period after Roman Emp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culture blended Greco-Roman, Germanic, &amp; Christian traditions to make a new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ant Fa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eas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peasant who rents land (pays $) to the lord fo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y would sell farm products to the townspeople to give $$ to the lord for land instead of labor = the lords could buy nice things = trade &amp; economy flour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 A Commercial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he changing economic needs (to protect the merchants’ businesses) led to a new way of doing business- i.e partnership =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The Commercial revolution changed the economy b.c. lords wanted luxuries &amp; got $$ from tenant famers to buy them- tenant famers were now making $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rchants, traders, &amp; 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new social class that was in b/n nobles (top) and the peasants (bott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is changed the social order b.c Merchants, traders, artisans become more powerful than peasants = new social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merc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n association or group of workers in one similar occup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se dominated town life, passed laws, protected economic interests of the workers by: protecting the quality of goods, regulated the hours of labor, &amp; set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en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ild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trainee to a guild master that learned a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guild master paid no wages but gave food &amp;housing in exchange for learning the trade; would eventually bcome journey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s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388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European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religious communities where Monks lived; Nuns lived in con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Middle Ages 500-1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ere Europe’s best educated communities: schools, libraries, 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A Medieval Monk’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hart-a monk's day"/>
          <p:cNvPicPr/>
          <p:nvPr/>
        </p:nvPicPr>
        <p:blipFill>
          <a:blip r:embed="rId1">
            <a:lum contrast="6000"/>
          </a:blip>
          <a:srcRect l="1431" t="11905" r="1431" b="2385"/>
          <a:stretch/>
        </p:blipFill>
        <p:spPr>
          <a:xfrm>
            <a:off x="1600200" y="1380960"/>
            <a:ext cx="7238880" cy="47912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752480" y="334800"/>
            <a:ext cx="701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A Medieval Monastery:  The </a:t>
            </a:r>
            <a:r>
              <a:rPr b="1" i="1" lang="en-US" sz="3200" spc="-1" strike="noStrike">
                <a:solidFill>
                  <a:srgbClr val="cc3300"/>
                </a:solidFill>
                <a:latin typeface="Art Gothic ExtraBold"/>
              </a:rPr>
              <a:t>Scrip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nastic library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7920" y="1219320"/>
            <a:ext cx="3781440" cy="543852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Illuminated Manu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Illuminated Manuscript-2"/>
          <p:cNvPicPr/>
          <p:nvPr/>
        </p:nvPicPr>
        <p:blipFill>
          <a:blip r:embed="rId1">
            <a:lum contrast="6000"/>
          </a:blip>
          <a:srcRect l="1493" t="4045" r="4715" b="3556"/>
          <a:stretch/>
        </p:blipFill>
        <p:spPr>
          <a:xfrm>
            <a:off x="2971800" y="990720"/>
            <a:ext cx="4492800" cy="55623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7560" y="1295280"/>
            <a:ext cx="7467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Germanic People, Clo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group of people that conquered parts of the Rom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 (France &amp; Switzerland toda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leader Clovis converted to Christianity &amp; united all the Franks = made them all Christian; their area &amp; customs eventually became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on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47560" y="12193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system of justice- The law of the Church for matters such as marriage &amp;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If you didn’t obey Canon Law, you would be excommunicated or not allowed to take Sacraments = Hell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: Pope or K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523880" y="11430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had #1 power on earth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s thought they were from God &amp; should have the #1 power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truggle… Who has the #1 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ma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ower struggle con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99840" y="1066680"/>
            <a:ext cx="7086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resented Kings/nobles having power over the church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e BANS Lay Investi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tes King, so King says: “Step down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e Excommunicates King He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Pope has more pow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 Investi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23880" y="106668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European Kings &amp; the P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Kings &amp; nobles appointed church offi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_(you should know these by now…)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Kings had power over the church = the Church/Pope gets mad = Pope BANS Lay Investiture= King &amp; Pope f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ordat of 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52388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Pope &amp;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greement b.n Pope &amp; King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Worms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122 CE (Middle Ag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FORGET to do these cards that aren’t here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447560" y="16765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gian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va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600200" y="3888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Power of the Medieval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905120" y="1455840"/>
            <a:ext cx="693396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hops and abbots played a large part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feud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hurch controlled about 1/3 of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land in Western 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ed to curb feudal warfar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ly 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days a year for comb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rb heresie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rusad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; 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i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/10 tax on your assets given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Peter’s Penc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 penny per pers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[paid by the peasants]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Romanesque Architectur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600200" y="838080"/>
            <a:ext cx="754380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unded Ar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rrel va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ck w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rker, simplistic interi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PressWriter Symbol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all windows, usually at the top of the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Romanesque Church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71800" y="3735360"/>
            <a:ext cx="4038480" cy="281772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Martel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35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leader of Frankish warr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won the Battle of Tours &amp; stopped Muslims from entering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, France, We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e pushed the Muslims back, out of Europe, which showed God was on the Christians’ side=  WE stays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Tours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99840" y="990360"/>
            <a:ext cx="7086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Charles Martel, Frankish warriors vs.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battle between Muslims &amp; Christians over control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Gaul, France,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7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e Christians pushed the Muslims back= Muslims did not conquer France; made WE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7:28:21Z</dcterms:created>
  <dc:creator>Susan M. Pojer</dc:creator>
  <dc:description/>
  <dc:language>en-US</dc:language>
  <cp:lastModifiedBy>Windows User</cp:lastModifiedBy>
  <dcterms:modified xsi:type="dcterms:W3CDTF">2012-09-08T13:07:27Z</dcterms:modified>
  <cp:revision>199</cp:revision>
  <dc:subject/>
  <dc:title>Slide 1</dc:title>
</cp:coreProperties>
</file>